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BB0-8D18-4E59-9D69-D20800E9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737-D619-4560-A973-48F730E0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A99-C158-46DC-8667-87E4D17F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4F8-2FBB-4CAF-9DB6-48BEDD4B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71C-700D-4C90-ADE4-C9BBAF4E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4E0-6D6D-406F-9859-FF502FBE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38C-550E-44A5-B907-C6203D7B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850-9483-4214-B77D-2701CDE2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FB0-C0F9-42AD-8C21-D7FB70DE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D5E-86DA-4B25-AED2-59298C30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455-E205-4F24-BA68-18227EAF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93B-0FBE-4260-BCBA-E7AE2648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EE21-0E00-4D78-BEB5-77B8F69DE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a “Sn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say the word that appears before I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di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go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a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a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jus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int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am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32:00Z</dcterms:created>
  <dc:creator>Wake County Public Schools</dc:creator>
  <dc:description/>
  <dc:language>en-US</dc:language>
  <cp:lastModifiedBy>jabdella</cp:lastModifiedBy>
  <dcterms:modified xsi:type="dcterms:W3CDTF">2010-02-14T18:43:32Z</dcterms:modified>
  <cp:revision>5</cp:revision>
  <dc:subject/>
  <dc:title>Words in a “Snap”</dc:title>
</cp:coreProperties>
</file>